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DE3F-1AF4-42C6-A699-E91EFD1C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A2150-D082-41C0-931E-D6A21BFC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AE8C1-F4CC-4131-8050-BC7D7BB1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E026-CFDD-4F41-9FD2-3CA8F573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B850-0182-4C5A-AF7F-F355DCA2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6006-5FA4-4EBC-BF64-0E61C63C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547A-63FD-40B5-8C7F-7B5DE232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C92E-F842-4F88-B26C-BF21D661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580A-ECDB-43B0-A26B-7FB0EE90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2EBD-4694-41CD-9AC2-6C39DC62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8A51-A086-4683-9324-5CDAC5F0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5AD51-C166-4584-80E8-2F6516DF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052D-BAEC-4566-AF60-744692AF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33AD-C252-4194-B050-7AEEFBE0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7872-0B77-4920-8405-5405D0BB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74BE-C646-4C7F-A1D8-04FD8320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A5ED-717C-464D-B41A-110D361D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9B49-8680-44FE-A7E6-87925B5B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78FA9-4410-43F6-B48C-C89A8A7F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ACF5-9D73-46EB-BB33-259EA57E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62688-243E-42DC-AB5A-AC2BEA96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4ACE-18B8-454E-9FF5-5B2F9F40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46C57-0AA8-437B-9A9D-C99CDD0D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CE5A-D42C-4E25-AF58-90351994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72D6-1029-4208-85CE-2D7AFBF47B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14D0-6528-409C-9E68-BF3205B6CE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ST INI</a:t>
            </a: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ŢI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65530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ructura programel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ipuri simple de d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riabile, consta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itire scriere d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ructuri repeti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676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Garamond"/>
              </a:rPr>
              <a:t>Privin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5e5ff"/>
                </a:solidFill>
                <a:latin typeface="Garamond"/>
              </a:rPr>
              <a:t>S</a:t>
            </a: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TRUCTURA PROGRAMELOR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e este structura de baz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ă a unu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rogram scris în limbajul Pasc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1295280"/>
            <a:ext cx="2895840" cy="990720"/>
          </a:xfrm>
          <a:prstGeom prst="wedgeEllipseCallout">
            <a:avLst>
              <a:gd name="adj1" fmla="val -41226"/>
              <a:gd name="adj2" fmla="val 8862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Notaţi răspunsul pe foaia de lucru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971800"/>
            <a:ext cx="2895480" cy="990720"/>
          </a:xfrm>
          <a:prstGeom prst="wedgeEllipseCallout">
            <a:avLst>
              <a:gd name="adj1" fmla="val -37773"/>
              <a:gd name="adj2" fmla="val 116666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Răspuns co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24320" y="3048120"/>
            <a:ext cx="3582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Program numele_programulu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{  Declararea variabilelor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{ Corpul programului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n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5e5ff"/>
                </a:solidFill>
                <a:latin typeface="Garamond"/>
              </a:rPr>
              <a:t>T</a:t>
            </a: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IPURI SIMPLE DE DAT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umera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ţi trei tipuri de dat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-   numere întreg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-   numere re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1295280"/>
            <a:ext cx="2895840" cy="990720"/>
          </a:xfrm>
          <a:prstGeom prst="wedgeEllipseCallout">
            <a:avLst>
              <a:gd name="adj1" fmla="val -41226"/>
              <a:gd name="adj2" fmla="val 8862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Notaţi răspunsul pe foaia de lucru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2819520"/>
            <a:ext cx="2895480" cy="990360"/>
          </a:xfrm>
          <a:prstGeom prst="wedgeEllipseCallout">
            <a:avLst>
              <a:gd name="adj1" fmla="val -36018"/>
              <a:gd name="adj2" fmla="val 10384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Răspuns co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292680" y="3962520"/>
            <a:ext cx="886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Tipuri întregi:</a:t>
            </a: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732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yte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oate lua valori intre (0, 255) stocat intern pe: 1 by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732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nteger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oate lua valori intre (-32768, 32767) stocat intern pe: 2 by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732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Word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oate lua valori intre (0, 65535) stocat intern pe: 2 by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4100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Tipuri reale:</a:t>
            </a: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732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ingle</a:t>
            </a: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po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te lua valori intre (1.5E-45, 3.4E38)</a:t>
            </a: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st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cat intern pe: 4 by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732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eal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oate lua valori intre (2.9E-39, 1.7E38)</a:t>
            </a: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tocat intern pe: 6 by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732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ouble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oate lua valori intre (5.0E-324, 1.7E308)</a:t>
            </a: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tocat intern pe: 8 byt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e5e5ff"/>
                </a:solidFill>
                <a:latin typeface="Garamond"/>
              </a:rPr>
              <a:t>V</a:t>
            </a:r>
            <a:r>
              <a:rPr b="1" lang="ro-RO" sz="4800" spc="-1" strike="noStrike">
                <a:solidFill>
                  <a:srgbClr val="e5e5ff"/>
                </a:solidFill>
                <a:latin typeface="Garamond"/>
              </a:rPr>
              <a:t>ARIABILE, CONSTANT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Cum declaraţi o variabilă de ti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boolean şi cum creaţi o constant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maxim setat pe 100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1295280"/>
            <a:ext cx="2895840" cy="990720"/>
          </a:xfrm>
          <a:prstGeom prst="wedgeEllipseCallout">
            <a:avLst>
              <a:gd name="adj1" fmla="val -41226"/>
              <a:gd name="adj2" fmla="val 8862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Notaţi răspunsul pe foaia de lucru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2819520"/>
            <a:ext cx="2895480" cy="990360"/>
          </a:xfrm>
          <a:prstGeom prst="wedgeEllipseCallout">
            <a:avLst>
              <a:gd name="adj1" fmla="val -36018"/>
              <a:gd name="adj2" fmla="val 10384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Răspuns co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96252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Var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        Var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nume_variabilă : tipul ;                 ok : boolea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4100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Const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        Var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nume_constantă  = tipul ;              maxim = 10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ITIRE </a:t>
            </a:r>
            <a:r>
              <a:rPr b="1" lang="ro-RO" sz="4800" spc="-1" strike="noStrike">
                <a:solidFill>
                  <a:srgbClr val="e5e5ff"/>
                </a:solidFill>
                <a:latin typeface="Garamond"/>
              </a:rPr>
              <a:t>- </a:t>
            </a: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SCRIERE DAT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Daţi instrucţiunea care afişeaz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mesajul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’’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Numărul est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’’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 şi citeşt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de la tastatură o variabilă de ti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între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1295280"/>
            <a:ext cx="2895840" cy="990720"/>
          </a:xfrm>
          <a:prstGeom prst="wedgeEllipseCallout">
            <a:avLst>
              <a:gd name="adj1" fmla="val -49125"/>
              <a:gd name="adj2" fmla="val 8862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Notaţi răspunsul pe foaia de lucru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819520"/>
            <a:ext cx="2895480" cy="990360"/>
          </a:xfrm>
          <a:prstGeom prst="wedgeEllipseCallout">
            <a:avLst>
              <a:gd name="adj1" fmla="val -48300"/>
              <a:gd name="adj2" fmla="val 8461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Răspuns co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39625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Write(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‘Numarul este: ’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;   Readln(numar)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6483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re este diferen</a:t>
            </a:r>
            <a:r>
              <a:rPr b="1" lang="ro-RO" sz="3200" spc="-1" strike="noStrike">
                <a:solidFill>
                  <a:srgbClr val="ffffff"/>
                </a:solidFill>
                <a:latin typeface="Garamond"/>
              </a:rPr>
              <a:t>ţa între WRITE şi WRITE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419040" y="5562720"/>
            <a:ext cx="1003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În cazul lui </a:t>
            </a:r>
            <a:r>
              <a:rPr b="1" i="1" lang="ro-RO" sz="1800" spc="-1" strike="noStrike">
                <a:solidFill>
                  <a:srgbClr val="ffffff"/>
                </a:solidFill>
                <a:latin typeface="Garamond"/>
              </a:rPr>
              <a:t>WRITE(conţinut),</a:t>
            </a: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afişează datele dintre paranteze, iar cursorul rămâne dup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conţinutul afişat. </a:t>
            </a:r>
            <a:r>
              <a:rPr b="1" i="1" lang="ro-RO" sz="1800" spc="-1" strike="noStrike">
                <a:solidFill>
                  <a:srgbClr val="ffffff"/>
                </a:solidFill>
                <a:latin typeface="Garamond"/>
              </a:rPr>
              <a:t>WRITELN(conţinut)</a:t>
            </a: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 are efectul de a afişa conţinutul şi a trece cursoru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aramond"/>
              </a:rPr>
              <a:t>în linie nou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e5e5ff"/>
                </a:solidFill>
                <a:latin typeface="Garamond"/>
              </a:rPr>
              <a:t>S</a:t>
            </a:r>
            <a:r>
              <a:rPr b="1" lang="ro-RO" sz="4800" spc="-1" strike="noStrike">
                <a:solidFill>
                  <a:srgbClr val="e5e5ff"/>
                </a:solidFill>
                <a:latin typeface="Garamond"/>
              </a:rPr>
              <a:t>TRUCTURI REPETITIV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Care este sintaxa şi cum trebu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să fie condiţia în cazul bucle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ff"/>
                </a:solidFill>
                <a:latin typeface="Garamond"/>
              </a:rPr>
              <a:t>WHILE 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entru a se executa conţinutu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1295280"/>
            <a:ext cx="2895840" cy="990720"/>
          </a:xfrm>
          <a:prstGeom prst="wedgeEllipseCallout">
            <a:avLst>
              <a:gd name="adj1" fmla="val -44296"/>
              <a:gd name="adj2" fmla="val 10528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Notaţi răspunsul pe foaia de lucru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2819520"/>
            <a:ext cx="2895480" cy="990360"/>
          </a:xfrm>
          <a:prstGeom prst="wedgeEllipseCallout">
            <a:avLst>
              <a:gd name="adj1" fmla="val -48300"/>
              <a:gd name="adj2" fmla="val 8461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Răspuns co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1480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WHILE ( condiţia )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(   ...................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4871400">
            <a:off x="4815000" y="4861440"/>
            <a:ext cx="1206360" cy="322200"/>
          </a:xfrm>
          <a:custGeom>
            <a:avLst/>
            <a:gdLst>
              <a:gd name="textAreaLeft" fmla="*/ 210960 w 1206360"/>
              <a:gd name="textAreaRight" fmla="*/ 874800 w 1206360"/>
              <a:gd name="textAreaTop" fmla="*/ 43200 h 322200"/>
              <a:gd name="textAreaBottom" fmla="*/ 279000 h 322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791320" y="4648320"/>
            <a:ext cx="129528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diţia TR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4876920"/>
            <a:ext cx="1143000" cy="30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diţia FAL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494640" y="514332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e5e5ff"/>
                </a:solidFill>
                <a:latin typeface="Garamond"/>
              </a:rPr>
              <a:t>S</a:t>
            </a:r>
            <a:r>
              <a:rPr b="1" lang="ro-RO" sz="4800" spc="-1" strike="noStrike">
                <a:solidFill>
                  <a:srgbClr val="e5e5ff"/>
                </a:solidFill>
                <a:latin typeface="Garamond"/>
              </a:rPr>
              <a:t>TRUCTURI REPETITIV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Care este sintaxa şi cum trebu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să fie condiţia în cazul bucle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ff"/>
                </a:solidFill>
                <a:latin typeface="Garamond"/>
              </a:rPr>
              <a:t>REPEAT 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entru a se executa conţinutu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1295280"/>
            <a:ext cx="2895840" cy="990720"/>
          </a:xfrm>
          <a:prstGeom prst="wedgeEllipseCallout">
            <a:avLst>
              <a:gd name="adj1" fmla="val -44296"/>
              <a:gd name="adj2" fmla="val 10528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Notaţi răspunsul pe foaia de lucru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2819520"/>
            <a:ext cx="2895480" cy="990360"/>
          </a:xfrm>
          <a:prstGeom prst="wedgeEllipseCallout">
            <a:avLst>
              <a:gd name="adj1" fmla="val -48300"/>
              <a:gd name="adj2" fmla="val 8461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Garamond"/>
              </a:rPr>
              <a:t>Răspuns co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4114800"/>
            <a:ext cx="44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REPE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(   ...................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Garamond"/>
              </a:rPr>
              <a:t>UNTIL ( condiţia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4871400">
            <a:off x="4434120" y="5775840"/>
            <a:ext cx="1206360" cy="322200"/>
          </a:xfrm>
          <a:custGeom>
            <a:avLst/>
            <a:gdLst>
              <a:gd name="textAreaLeft" fmla="*/ 210960 w 1206360"/>
              <a:gd name="textAreaRight" fmla="*/ 874800 w 1206360"/>
              <a:gd name="textAreaTop" fmla="*/ 43200 h 322200"/>
              <a:gd name="textAreaBottom" fmla="*/ 279000 h 322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562720" y="5562720"/>
            <a:ext cx="129528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diţia TR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472428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diţia FAL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1828800" y="4647960"/>
            <a:ext cx="1066680" cy="6094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MIKE</cp:lastModifiedBy>
  <dcterms:modified xsi:type="dcterms:W3CDTF">2010-11-30T19:22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